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482A-2DFF-4492-AE0B-63F53D918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D2B4-889C-46D2-8C78-74DD03C8A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8F0C-2A66-4B90-81D8-3FC5796CA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246A-3639-49E8-A668-495F88D71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A1B5A-A188-4DDA-8FA1-1E21CF354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0BD25-16E6-4330-9BE8-F28E31DCA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6BA63-2F18-4639-9515-B951A6C8C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78320-049B-4B1A-B3C3-2CC30E35C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C2B09-EAD7-4A57-B600-C5B6FAEF9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83D7E-3E41-4925-A4A9-4FE98CE4A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5AE87-20FF-4562-B0A9-28E6E269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7308-D92A-4D85-B6B8-01ED9D41B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35CE5-A0DB-4A2A-A13E-518DABF00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D2CA6-0E94-4F65-A689-56329D21C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2BE2B-0BE2-48FE-A5B8-15DF427BD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F290F-7F04-46C7-9194-1FF80D94B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62F0D-E666-4A63-83A1-3E852BA98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5862-34EB-4E9C-A700-046EBAD21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D893-0CB2-482E-81FC-9345DC93B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E984-BBC2-42D2-99FD-9BAE7B588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B1A8-7575-4439-A419-5A393D94D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8515-B16D-4C4B-957A-F044B7389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A886-AE88-4ACC-AEFB-EEE27F2A9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27FB-FDC3-440A-B806-7FE7C4ACE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5e574e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CAFB3-C7DC-4DD1-832D-AAE1087EC8D1}" type="slidenum">
              <a:rPr b="0" lang="zh-TW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5e574e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84C04-2D1D-4039-BD21-3E08F341CD29}" type="slidenum">
              <a:rPr b="0" lang="zh-TW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物件導向程式設計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90360" y="2590920"/>
            <a:ext cx="7543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標楷體"/>
              </a:rPr>
              <a:t>Project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標楷體"/>
              </a:rPr>
              <a:t>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標楷體"/>
              </a:rPr>
              <a:t>TSP by GA on Pal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"/>
          <p:cNvSpPr/>
          <p:nvPr/>
        </p:nvSpPr>
        <p:spPr>
          <a:xfrm>
            <a:off x="990720" y="4495680"/>
            <a:ext cx="6858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資工系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9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曾球庭、鄭元和、董建甫、林啟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EM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1" descr=""/>
          <p:cNvPicPr/>
          <p:nvPr/>
        </p:nvPicPr>
        <p:blipFill>
          <a:blip r:embed="rId1"/>
          <a:stretch/>
        </p:blipFill>
        <p:spPr>
          <a:xfrm>
            <a:off x="2438280" y="3124080"/>
            <a:ext cx="4800600" cy="3497400"/>
          </a:xfrm>
          <a:prstGeom prst="rect">
            <a:avLst/>
          </a:prstGeom>
          <a:ln w="0">
            <a:noFill/>
          </a:ln>
        </p:spPr>
      </p:pic>
      <p:pic>
        <p:nvPicPr>
          <p:cNvPr id="88" name="p2" descr=""/>
          <p:cNvPicPr/>
          <p:nvPr/>
        </p:nvPicPr>
        <p:blipFill>
          <a:blip r:embed="rId2"/>
          <a:stretch/>
        </p:blipFill>
        <p:spPr>
          <a:xfrm>
            <a:off x="2438280" y="3124080"/>
            <a:ext cx="4835520" cy="34974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Comic Sans MS"/>
                <a:ea typeface="標楷體"/>
              </a:rPr>
              <a:t>TSP(</a:t>
            </a:r>
            <a:r>
              <a:rPr b="1" lang="zh-TW" sz="4000" spc="-1" strike="noStrike">
                <a:solidFill>
                  <a:srgbClr val="000000"/>
                </a:solidFill>
                <a:latin typeface="Comic Sans MS"/>
                <a:ea typeface="標楷體"/>
              </a:rPr>
              <a:t>銷售員旅行問題</a:t>
            </a:r>
            <a:r>
              <a:rPr b="1" lang="zh-TW" sz="4000" spc="-1" strike="noStrike">
                <a:solidFill>
                  <a:srgbClr val="000000"/>
                </a:solidFill>
                <a:latin typeface="Comic Sans MS"/>
                <a:ea typeface="標楷體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04560" y="23619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ample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：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0 points to travel through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S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04560" y="2361960"/>
            <a:ext cx="84582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Traveling Salesman Problem: </a:t>
            </a:r>
            <a:r>
              <a:rPr b="0" lang="zh-TW" sz="3200" spc="-1" strike="noStrike">
                <a:solidFill>
                  <a:srgbClr val="ff0000"/>
                </a:solidFill>
                <a:latin typeface="Comic Sans MS"/>
              </a:rPr>
              <a:t>Min. Path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3124080"/>
            <a:ext cx="320040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15840" y="3200400"/>
            <a:ext cx="5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10920" y="3809880"/>
            <a:ext cx="5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058840" y="4191120"/>
            <a:ext cx="5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96920" y="5105520"/>
            <a:ext cx="5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058840" y="3276720"/>
            <a:ext cx="5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92160" y="4572000"/>
            <a:ext cx="5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06560" y="5791320"/>
            <a:ext cx="5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560" y="3581280"/>
            <a:ext cx="66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9520" y="5791320"/>
            <a:ext cx="5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96920" y="5867280"/>
            <a:ext cx="5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064040" y="3149640"/>
          <a:ext cx="4622760" cy="3494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040" y="3149640"/>
                    <a:ext cx="4622760" cy="34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S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5800" y="2437920"/>
            <a:ext cx="784872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plexity order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：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!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P-Complet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1066320"/>
            <a:ext cx="77216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Comic Sans MS"/>
              </a:rPr>
              <a:t>GA(</a:t>
            </a:r>
            <a:r>
              <a:rPr b="0" lang="zh-TW" sz="4000" spc="-1" strike="noStrike">
                <a:solidFill>
                  <a:srgbClr val="000000"/>
                </a:solidFill>
                <a:latin typeface="Comic Sans MS"/>
                <a:ea typeface="標楷體"/>
              </a:rPr>
              <a:t>基因演算法</a:t>
            </a:r>
            <a:r>
              <a:rPr b="0" lang="zh-TW" sz="4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685800" y="2437920"/>
            <a:ext cx="7848720" cy="312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enetic Algorithm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 approach method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nd out the optimum soluti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1066320"/>
            <a:ext cx="77216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Comic Sans MS"/>
              </a:rPr>
              <a:t>GA(</a:t>
            </a:r>
            <a:r>
              <a:rPr b="0" lang="zh-TW" sz="4000" spc="-1" strike="noStrike">
                <a:solidFill>
                  <a:srgbClr val="000000"/>
                </a:solidFill>
                <a:latin typeface="Comic Sans MS"/>
                <a:ea typeface="標楷體"/>
              </a:rPr>
              <a:t>基因演算法</a:t>
            </a:r>
            <a:r>
              <a:rPr b="0" lang="zh-TW" sz="4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85800" y="2437920"/>
            <a:ext cx="7848720" cy="312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opulati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valuation(Count Fitness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utati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eneration(Crossover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iminate(Discard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5e574e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2666880"/>
            <a:ext cx="2273400" cy="596880"/>
          </a:xfrm>
          <a:prstGeom prst="octagon">
            <a:avLst>
              <a:gd name="adj" fmla="val 29282"/>
            </a:avLst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4114800"/>
            <a:ext cx="2273400" cy="596880"/>
          </a:xfrm>
          <a:prstGeom prst="octagon">
            <a:avLst>
              <a:gd name="adj" fmla="val 29282"/>
            </a:avLst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791320" y="4100400"/>
            <a:ext cx="2273040" cy="596880"/>
          </a:xfrm>
          <a:prstGeom prst="octagon">
            <a:avLst>
              <a:gd name="adj" fmla="val 29282"/>
            </a:avLst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2666880"/>
            <a:ext cx="2273040" cy="596880"/>
          </a:xfrm>
          <a:prstGeom prst="octagon">
            <a:avLst>
              <a:gd name="adj" fmla="val 29282"/>
            </a:avLst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66680" y="5867280"/>
            <a:ext cx="2273400" cy="596880"/>
          </a:xfrm>
          <a:prstGeom prst="octagon">
            <a:avLst>
              <a:gd name="adj" fmla="val 29282"/>
            </a:avLst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352680" y="2965320"/>
            <a:ext cx="2425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050920" y="3276720"/>
            <a:ext cx="0" cy="8254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355840" y="3276720"/>
            <a:ext cx="0" cy="825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03560" y="4724280"/>
            <a:ext cx="0" cy="113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03360" y="5952960"/>
            <a:ext cx="13305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339720" y="4413240"/>
            <a:ext cx="245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27840" y="3276720"/>
            <a:ext cx="0" cy="825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41600" y="4856040"/>
            <a:ext cx="12816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e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40520" y="3484440"/>
            <a:ext cx="1097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58960" y="2494080"/>
            <a:ext cx="1199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140240" y="3255840"/>
            <a:ext cx="12499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dif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344040" y="4475160"/>
            <a:ext cx="2462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aluated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1066680"/>
            <a:ext cx="7924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e GA Cycle of Reprodu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imes New Roman"/>
                <a:ea typeface="標楷體"/>
              </a:rPr>
              <a:t>程式功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將使用者選擇城市之個數，以及各種控制變因進行基因演算法，並將結果以圖顯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imes New Roman"/>
                <a:ea typeface="標楷體"/>
              </a:rPr>
              <a:t>程式結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TSP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　主程式，介面控制　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DrawCity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將所得運算結果畫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TSPServer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　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Server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端程式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,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負責傳回運算結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Evolution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　基因演算法運算部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5T14:12:38Z</dcterms:created>
  <dc:creator>enka</dc:creator>
  <dc:description/>
  <dc:language>en-US</dc:language>
  <cp:lastModifiedBy>pdshingo</cp:lastModifiedBy>
  <dcterms:modified xsi:type="dcterms:W3CDTF">2003-05-12T23:00:20Z</dcterms:modified>
  <cp:revision>23</cp:revision>
  <dc:subject/>
  <dc:title>物件導向程式設計</dc:title>
</cp:coreProperties>
</file>