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1B2-7DA5-41CC-B5A8-B7D82945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D13-6AA6-4926-BE72-B406B277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A74-ACC5-4CB2-89CB-65E6F8F2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62E-9635-4138-8D7D-CEA258E0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710-0135-4745-AEAD-B5327EDE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A1F-957D-4808-B9C6-6618F4F0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B3B-41FE-40EC-9A48-C5479211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506-34BE-4C4C-BDA3-4DC3F5A8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FB6-10DE-478F-8A72-8982DABC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37D-1E74-4BCC-AB28-D26E4F98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56D-D0FF-4949-8C49-05FB06FA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19B-82EF-4B78-8078-89289AE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0053-5882-4098-9A2C-F356CF73715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hyperlink" Target="http://140.117.194.153/samegame/samegame.html" TargetMode="Externa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8240" y="333360"/>
            <a:ext cx="762012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6720" y="2060640"/>
            <a:ext cx="5904000" cy="3960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Java</a:t>
            </a:r>
            <a:r>
              <a:rPr b="0" lang="zh-TW" sz="40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期末專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指導老師  黃三益老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 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組員   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8942011 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陳介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        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8942024 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劉佩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        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8942043 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李宜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06720" y="5229360"/>
            <a:ext cx="952560" cy="380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0920" y="4064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4360" y="404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815240" y="4064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7956720" y="5493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8101080" y="693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8245440" y="838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8389800" y="98280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1628640"/>
            <a:ext cx="5616720" cy="367344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華康娃娃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平台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:J2SE 1.4.2 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華康娃娃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java a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華康娃娃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0920" y="4064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84360" y="404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7815240" y="4064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956720" y="5493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8101080" y="693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8245440" y="838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8389800" y="98280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8000" y="1628640"/>
            <a:ext cx="5616720" cy="367344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華康娃娃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Same game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遊戲規則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華康娃娃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玩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華康娃娃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計分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華康娃娃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華康娃娃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記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華康娃娃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Audio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、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4064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84360" y="404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815240" y="4064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7956720" y="5493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8101080" y="693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8245440" y="838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8389800" y="982800"/>
            <a:ext cx="285840" cy="28548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908000" y="1628640"/>
            <a:ext cx="5616720" cy="3673440"/>
            <a:chOff x="1908000" y="1628640"/>
            <a:chExt cx="5616720" cy="3673440"/>
          </a:xfrm>
        </p:grpSpPr>
        <p:sp>
          <p:nvSpPr>
            <p:cNvPr id="78" name=""/>
            <p:cNvSpPr/>
            <p:nvPr/>
          </p:nvSpPr>
          <p:spPr>
            <a:xfrm>
              <a:off x="1908000" y="1628640"/>
              <a:ext cx="5616720" cy="3673440"/>
            </a:xfrm>
            <a:prstGeom prst="rect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華康娃娃體"/>
                  <a:ea typeface="華康娃娃體"/>
                </a:rPr>
                <a:t>DEMO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2195640" y="4653000"/>
              <a:ext cx="9522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0920" y="4064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84360" y="404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815240" y="4064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7956720" y="5493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8101080" y="693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8245440" y="838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8389800" y="98280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8000" y="1628640"/>
            <a:ext cx="5616720" cy="367344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1. 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圖片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random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的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2. </a:t>
            </a:r>
            <a:r>
              <a:rPr b="1" lang="zh-TW" sz="24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連線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09880" y="868320"/>
            <a:ext cx="1514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6600"/>
                </a:solidFill>
                <a:latin typeface="Arial"/>
                <a:ea typeface="華康娃娃體"/>
              </a:rPr>
              <a:t>遇到的困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50920" y="4064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84360" y="404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815240" y="4064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956720" y="5493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8101080" y="693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8245440" y="838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8389800" y="98280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0920" y="692280"/>
            <a:ext cx="2611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6600"/>
                </a:solidFill>
                <a:latin typeface="Arial"/>
                <a:ea typeface="華康娃娃體"/>
              </a:rPr>
              <a:t>程式解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08000" y="1628640"/>
            <a:ext cx="5616720" cy="3673440"/>
            <a:chOff x="1908000" y="1628640"/>
            <a:chExt cx="5616720" cy="3673440"/>
          </a:xfrm>
        </p:grpSpPr>
        <p:sp>
          <p:nvSpPr>
            <p:cNvPr id="104" name=""/>
            <p:cNvSpPr/>
            <p:nvPr/>
          </p:nvSpPr>
          <p:spPr>
            <a:xfrm>
              <a:off x="1908000" y="1628640"/>
              <a:ext cx="5616720" cy="3673440"/>
            </a:xfrm>
            <a:prstGeom prst="rect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24000" y="1773360"/>
              <a:ext cx="10080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80000" y="1773360"/>
              <a:ext cx="10080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37080" y="2708280"/>
              <a:ext cx="136656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useD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9280" y="4653000"/>
              <a:ext cx="10080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cul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787920"/>
              <a:ext cx="11509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rr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789360"/>
              <a:ext cx="136836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conn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56360" y="1773360"/>
              <a:ext cx="115236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d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198900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84720" y="2276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40360" y="3429000"/>
              <a:ext cx="360360" cy="216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922200" y="3573360"/>
              <a:ext cx="28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7640" y="357336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64000" y="4292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56000" y="3213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20667600">
              <a:off x="4554360" y="2098440"/>
              <a:ext cx="953280" cy="9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47" y="637"/>
                  </a:moveTo>
                  <a:arcTo wR="10800" hR="10800" stAng="-6586182" swAng="12815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7147" y="637"/>
                  </a:moveTo>
                  <a:arcTo wR="10800" hR="10800" stAng="-6586182" swAng="12815412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8000" y="19890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66880" y="2557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aint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4064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84360" y="404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815240" y="4064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956720" y="5493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8101080" y="693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8245440" y="838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8389800" y="98280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08000" y="1628640"/>
            <a:ext cx="5616720" cy="367344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~</a:t>
            </a:r>
            <a:r>
              <a:rPr b="0" lang="zh-TW" sz="40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謝謝大家</a:t>
            </a:r>
            <a:r>
              <a:rPr b="0" lang="zh-TW" sz="4000" spc="-1" strike="noStrike">
                <a:solidFill>
                  <a:srgbClr val="006600"/>
                </a:solidFill>
                <a:latin typeface="華康娃娃體"/>
                <a:ea typeface="華康娃娃體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11:44:46Z</dcterms:created>
  <dc:creator>Lifeis</dc:creator>
  <dc:description/>
  <dc:language>en-US</dc:language>
  <cp:lastModifiedBy>Lifeis</cp:lastModifiedBy>
  <dcterms:modified xsi:type="dcterms:W3CDTF">2003-06-16T15:55:06Z</dcterms:modified>
  <cp:revision>21</cp:revision>
  <dc:subject/>
  <dc:title>投影片 1</dc:title>
</cp:coreProperties>
</file>