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C71D-9EE1-4F69-85AE-2BF9B5BA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5CF4-F966-41E3-B2DB-71418D4F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3B3C-DD16-436C-B828-0EF6B93C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366C-441A-4110-8340-FF24A4E1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95E9-E62A-4505-B999-2B6D2707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2505-9F58-4927-9E44-F344D952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660D-94C0-4E7C-AD32-20C3C79D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8831-7CAA-4EF9-A608-ECE1629E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7B25-DA25-4358-A5DB-FA563B93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3696-198A-4E40-8814-C60F8DCD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843C-B84F-4169-A248-09CAEDD7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AB5B-A9FC-4068-82DE-B0FDFBF2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0553-1EA3-4BC6-9D02-56B25A75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3406-058F-4A14-829D-3C75C8AF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9E86-1B8D-44C7-B6A9-1EF7AB5D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6FD3-8F02-477C-A8A8-CCB20C3D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0EA7-3171-4446-ADE2-A22C9A05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6668-37CE-4020-8230-E8795D2F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CE5E-B151-4272-AA3C-D1F79A7D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1F01-9C0A-4731-B4FC-62A40477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0F42-4D1F-415C-81BF-A7295900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7D24-2990-4B4A-AE4B-DC859F55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31A1-BEB9-40D2-ADE5-9E1654C2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B594-081D-4A2D-A258-22EB8C0F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B88F-9288-4897-A453-3759C47F4BC8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D04B-3A6B-48DE-B778-423E44858D3F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J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va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se the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roduce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894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89420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894203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J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va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a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about use java’s media supports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 To make some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interesting programs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’s our Targe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edia player made by java(and u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function suppor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y ; Loop ; AdjustVolume ; AdjustSpe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yList ; Etc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J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va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a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yer </a:t>
            </a:r>
            <a:r>
              <a:rPr b="0" lang="en-US" sz="4400" spc="-1" strike="noStrike" baseline="30000">
                <a:solidFill>
                  <a:srgbClr val="0000ff"/>
                </a:solidFill>
                <a:latin typeface="Tahoma"/>
              </a:rPr>
              <a:t>cont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va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dia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rame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atures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y by translate file to wav. (by jm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 on PlayList Desig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y URL suppor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’s see it ^^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J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va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a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yer </a:t>
            </a:r>
            <a:r>
              <a:rPr b="0" lang="en-US" sz="4400" spc="-1" strike="noStrike" baseline="30000">
                <a:solidFill>
                  <a:srgbClr val="0000ff"/>
                </a:solidFill>
                <a:latin typeface="Tahoma"/>
              </a:rPr>
              <a:t>fi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thing we wish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JM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o more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 Sup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ly tech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he 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For Your Listen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333399"/>
                </a:solidFill>
                <a:latin typeface="Tahoma"/>
              </a:rPr>
              <a:t>                                                               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Tahoma"/>
              </a:rPr>
              <a:t>J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Tahoma"/>
              </a:rPr>
              <a:t>ava 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Tahoma"/>
              </a:rPr>
              <a:t>M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Tahoma"/>
              </a:rPr>
              <a:t>ocha 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Tahoma"/>
              </a:rPr>
              <a:t>P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Tahoma"/>
              </a:rPr>
              <a:t>uff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ahoma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4T20:12:19Z</dcterms:created>
  <dc:creator>林士棻</dc:creator>
  <dc:description/>
  <dc:language>en-US</dc:language>
  <cp:lastModifiedBy>林士棻</cp:lastModifiedBy>
  <dcterms:modified xsi:type="dcterms:W3CDTF">2002-06-24T23:35:22Z</dcterms:modified>
  <cp:revision>2</cp:revision>
  <dc:subject/>
  <dc:title>Java Course the Project</dc:title>
</cp:coreProperties>
</file>